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09D68-718C-4432-8A83-366502759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87E18-773D-488C-AB86-76F5FCEB7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CD318-D1A1-42C7-BF6B-165AE3501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1FE35-18CE-44C8-81FD-3977A5EA3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42E62-95B0-48A0-B38D-265F05164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8C213-3FB8-403C-8C2B-05F3740CA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0B750-7C3B-4534-9298-3725638D6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87B19-6112-459A-9778-BD5E9356D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3F3DC-5E65-4048-BCA7-770B0BFED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BB247-63EB-41D3-A6D7-DB949B8B2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7B122-4B31-43D5-B115-542576421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F4F79-043B-4D98-9948-42AA8166C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BFA23-320E-4080-9AB0-4A55F23194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90360" y="1905120"/>
            <a:ext cx="7086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;Karsyn,Kyle,Felicia,and Kai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2438280" y="380880"/>
            <a:ext cx="42674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arbondale Area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440" y="304920"/>
            <a:ext cx="4343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752120" y="914040"/>
            <a:ext cx="2057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0" y="685800"/>
          <a:ext cx="9086760" cy="617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85800"/>
                    <a:ext cx="9086760" cy="617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"/>
          <p:cNvSpPr txBox="1"/>
          <p:nvPr/>
        </p:nvSpPr>
        <p:spPr>
          <a:xfrm>
            <a:off x="1447920" y="0"/>
            <a:ext cx="2638440" cy="1751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radiation dat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6324480" y="685800"/>
            <a:ext cx="259092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a bar graph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3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9T17:56:00Z</dcterms:created>
  <dc:creator>neiu</dc:creator>
  <dc:description/>
  <dc:language>en-US</dc:language>
  <cp:lastModifiedBy>neiu</cp:lastModifiedBy>
  <dcterms:modified xsi:type="dcterms:W3CDTF">2009-10-19T18:15:44Z</dcterms:modified>
  <cp:revision>2</cp:revision>
  <dc:subject/>
  <dc:title>Radiation data </dc:title>
</cp:coreProperties>
</file>